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30400" y="690120"/>
            <a:ext cx="45972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A959-7764-44E9-BD15-9376C8ACF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5D93-E846-405C-A2ED-8D23530A8C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3092-452F-49C5-B429-1C00FDBA38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4C1E-EE70-463D-8974-BAF6C96A94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995F-1F7D-4F97-ACAF-BA3627388A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F3A2-53CA-4BC0-9128-FF4502559E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7374-42C6-4680-9DC9-6EBFA40F2A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9669-7AED-411B-9C44-75B77EFB26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BDC5-4F92-4371-AAC5-BC538D7C20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ED11-97A7-4ADF-B3DE-6EDC06B218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736C-49BD-451A-A3F4-1E9A92500B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9520-806A-46CD-ACC7-CE57E9DB68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8F20-E467-4111-BA3D-261005F3F9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773F-4602-4A79-ACC5-EA9BABCC53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655B-938B-4F6B-ABFC-287BD90775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018B-C562-4259-9D8A-4B8A9A9B18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9714-FAD8-48D4-8BEB-6600DE2636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533A-B029-49FC-A206-D918B2C451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5165-BBA0-4CB6-B16C-71C0C4ECCC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20A4-542C-4613-88FF-02B54A4511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4CA6-213D-453B-BC6A-18FA2090FD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DE83-EDB1-4C82-AA15-B2A38CC7BE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ECB5-D0E0-4FCC-9AB7-2A8FF4C107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FA6F-1871-47C6-B574-D36C933E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A844-20B4-4F5A-9896-2A376614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8168-4AB6-4C4A-AB71-7DBA018E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3EB-53B1-4D4E-BB52-8DBD9FF7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5C61-DA55-4CE2-9863-F17F2588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69E8-CA34-4D22-AF1B-7DB56EC8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3AF6-4033-4433-8FA4-9E40E103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8CF4-58AF-4100-8B9C-43ABC2E8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05AF-B79C-4115-B099-17DCDF72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8BB0-7DFF-4FF4-8875-5FD0A4E2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2FC3-3E06-4D67-98C1-A898C41A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711-DECA-4189-B587-8C9B7EA7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F026-8903-4C62-8785-79136000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7EFF-AD27-49FB-9474-8C7C1E4E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C4EC-A986-40D8-B725-21A2C9AC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F042-9B7D-40F8-ACAB-EAA7AD65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402C-F6D8-49E3-97FC-C29A3C97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0F4-1576-4D04-9B34-76C551FA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037F-7F67-4A1B-8D18-ABE2AE95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0A6-8B33-47BC-AAE7-788178C1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4C34-F678-4ECA-8F01-76E21F60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177B-3D6A-43E4-9F4C-FBA4107F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CF6-BB20-4622-9B8F-2D76C948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DA8-778C-4A9C-B86C-EEDFE2BD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908B-1409-4D89-81AE-CDC6C6618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021D-BABF-44C8-AD81-EF5B922AB5D3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Organizational C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ssion Stat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s the basic purpose of the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s how the organization differs from others in the same indus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setting priorities, strategies, and p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ed by the stakeholders and turned into personalized 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sentials fo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zational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Vi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ategy, Mindset, and Cul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or strategy choices need to be made abou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 to cre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peak perform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indset of the individual is important in that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strategy is vital to suc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asis of the mindset is based on the individuals experiences encountered and self-esteem that influences self-confid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ategy, Mindset, and Cul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xisting organizational culture is the result of implemented decisions that have shaped the organization’s way of thinking and opera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ulture must be “in tune with” the strateg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ak Performing Sch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a vi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e a vi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e the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ish and make sure the basic values are follow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positive norms are cre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oals, Processes,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Spir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ional goals need to be developed.  Individuals strengths and weaknesses should be recognized and accepted creating a team spir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 rules and processes should be established and agreed upon by the te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ositive work environment, that empowers all to participate, creates team spirit and energ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4"/>
          <p:cNvSpPr/>
          <p:nvPr/>
        </p:nvSpPr>
        <p:spPr>
          <a:xfrm flipV="1">
            <a:off x="1752480" y="3352320"/>
            <a:ext cx="3581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600200" y="4952880"/>
            <a:ext cx="3733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160020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5105520" y="3352680"/>
            <a:ext cx="1523880" cy="182880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828800"/>
              <a:gd name="textAreaBottom" fmla="*/ 1754640 h 1828800"/>
            </a:gdLst>
            <a:ahLst/>
            <a:rect l="textAreaLeft" t="textAreaTop" r="textAreaRight" b="textAreaBottom"/>
            <a:pathLst>
              <a:path w="21600" h="25921">
                <a:moveTo>
                  <a:pt x="3600" y="0"/>
                </a:moveTo>
                <a:arcTo wR="3600" hR="3600" stAng="16200000" swAng="-5400000"/>
                <a:lnTo>
                  <a:pt x="0" y="22321"/>
                </a:lnTo>
                <a:arcTo wR="3600" hR="3600" stAng="10800000" swAng="-5400000"/>
                <a:lnTo>
                  <a:pt x="18000" y="259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9"/>
          <p:cNvSpPr/>
          <p:nvPr/>
        </p:nvSpPr>
        <p:spPr>
          <a:xfrm flipV="1">
            <a:off x="1600200" y="3962520"/>
            <a:ext cx="3505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10"/>
          <p:cNvSpPr/>
          <p:nvPr/>
        </p:nvSpPr>
        <p:spPr>
          <a:xfrm flipV="1">
            <a:off x="1600200" y="4647960"/>
            <a:ext cx="3505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1"/>
          <p:cNvSpPr/>
          <p:nvPr/>
        </p:nvSpPr>
        <p:spPr>
          <a:xfrm rot="21127800">
            <a:off x="2362320" y="4266720"/>
            <a:ext cx="230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hared Meaning = ENER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2261520" y="1911240"/>
            <a:ext cx="136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2590920" y="22096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057400" y="26733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ersonal Pow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2057400" y="328284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eadershi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17"/>
          <p:cNvSpPr/>
          <p:nvPr/>
        </p:nvSpPr>
        <p:spPr>
          <a:xfrm flipV="1">
            <a:off x="3505320" y="31237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4927320" y="290196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uman Quali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9"/>
          <p:cNvSpPr/>
          <p:nvPr/>
        </p:nvSpPr>
        <p:spPr>
          <a:xfrm flipH="1">
            <a:off x="159984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2286000" y="5187960"/>
            <a:ext cx="18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21"/>
          <p:cNvSpPr/>
          <p:nvPr/>
        </p:nvSpPr>
        <p:spPr>
          <a:xfrm>
            <a:off x="2590920" y="5562720"/>
            <a:ext cx="533160" cy="838080"/>
          </a:xfrm>
          <a:prstGeom prst="downArrow">
            <a:avLst>
              <a:gd name="adj1" fmla="val 50000"/>
              <a:gd name="adj2" fmla="val 3929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2209680" y="5715000"/>
            <a:ext cx="182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osition Pow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2286000" y="640080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25"/>
          <p:cNvSpPr/>
          <p:nvPr/>
        </p:nvSpPr>
        <p:spPr>
          <a:xfrm>
            <a:off x="3733920" y="533412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26"/>
          <p:cNvSpPr/>
          <p:nvPr/>
        </p:nvSpPr>
        <p:spPr>
          <a:xfrm>
            <a:off x="5029200" y="5264280"/>
            <a:ext cx="186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chnical Quali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380160" y="2394000"/>
            <a:ext cx="136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Willing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mb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elf-Confide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29"/>
          <p:cNvSpPr/>
          <p:nvPr/>
        </p:nvSpPr>
        <p:spPr>
          <a:xfrm>
            <a:off x="316800" y="5122800"/>
            <a:ext cx="1169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Abil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echnic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conomic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xperien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ki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30"/>
          <p:cNvSpPr/>
          <p:nvPr/>
        </p:nvSpPr>
        <p:spPr>
          <a:xfrm rot="21207000">
            <a:off x="2337840" y="391788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ttun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31"/>
          <p:cNvSpPr/>
          <p:nvPr/>
        </p:nvSpPr>
        <p:spPr>
          <a:xfrm rot="21405600">
            <a:off x="2416320" y="4680000"/>
            <a:ext cx="98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lign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32"/>
          <p:cNvSpPr/>
          <p:nvPr/>
        </p:nvSpPr>
        <p:spPr>
          <a:xfrm>
            <a:off x="1584360" y="717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33"/>
          <p:cNvSpPr/>
          <p:nvPr/>
        </p:nvSpPr>
        <p:spPr>
          <a:xfrm>
            <a:off x="1318320" y="668160"/>
            <a:ext cx="7707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Organizational Cone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urce:  Copyright 2000 by Bo Gyllenpal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nagement-Position Power-Compli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er part of the cone deals with MANAGEMENT issues such 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ulating the mission/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ing strategic deci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ng r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igning tasks to be perform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nagement-Position Power-Compli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position power can get people to comply BUT not always be commit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Fostering commitment requires leadership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dership-Power Power-Commit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per part of the cone deals with LEADERSHIP factors such 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willingness to achieve the common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fully influencing people through mutual respect and commi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manage and le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zational C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ed by Swedish management consultant, Bo Gyllenpal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ificant to understanding organizational relationshi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gnment and Attun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bottom part of the cone should be aligned and directed toward the vision or final perform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re alignment and attunement there are, the more energy will be generated and focused toward achieving a peak perform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ive Leadersh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ive leaders create a compelling vision of what the final state can look like, feel like, and be lik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rong and compelling vision w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a shared meaning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energy, a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 the way toward a peak perform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LL areas of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act in a positive mann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cus on the shared vi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antastic results can be accomplished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n idea that becomes a unique image of the fu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s energy and will compel us to 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rticula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through images or inner pictures so that others can see its potent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ter Senge says, “A shared vision is not an idea.  It is rather,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orce in people’s hear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orce of impressive pow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ive energy/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reative ten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s referred to by Senge, comes from seeing clear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e want to b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i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ing the truth about where we are, ou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urrent rea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out vision, there is not creative energy or ten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er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egativ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ght or flight syndr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when someone feels threatened or afra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l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ositiv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when people can see something in their minds that really attracts and excites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lasting; makes people commit to the v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000800" y="5892840"/>
            <a:ext cx="80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 is necessary to move toward the futu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ak Performing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s tha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r see in the shared vision something that attracts their full interest and desi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ceptions of the vision may not be exactly the sam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the visions are overlapping and  interwoven, the “energy vectors” form a c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ared Vi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Oval 5"/>
          <p:cNvSpPr/>
          <p:nvPr/>
        </p:nvSpPr>
        <p:spPr>
          <a:xfrm rot="5400000">
            <a:off x="1066680" y="358128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ine 7"/>
          <p:cNvSpPr/>
          <p:nvPr/>
        </p:nvSpPr>
        <p:spPr>
          <a:xfrm flipV="1">
            <a:off x="1905120" y="3124080"/>
            <a:ext cx="4343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8"/>
          <p:cNvSpPr/>
          <p:nvPr/>
        </p:nvSpPr>
        <p:spPr>
          <a:xfrm flipV="1">
            <a:off x="1981080" y="3505320"/>
            <a:ext cx="4267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1981080" y="3962160"/>
            <a:ext cx="4267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10"/>
          <p:cNvSpPr/>
          <p:nvPr/>
        </p:nvSpPr>
        <p:spPr>
          <a:xfrm>
            <a:off x="1905120" y="434340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1981080" y="3733920"/>
            <a:ext cx="44197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6172200" y="2362320"/>
            <a:ext cx="1447920" cy="2590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Oval 13"/>
          <p:cNvSpPr/>
          <p:nvPr/>
        </p:nvSpPr>
        <p:spPr>
          <a:xfrm>
            <a:off x="6629400" y="2590920"/>
            <a:ext cx="53352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Oval 14"/>
          <p:cNvSpPr/>
          <p:nvPr/>
        </p:nvSpPr>
        <p:spPr>
          <a:xfrm>
            <a:off x="6781680" y="2971800"/>
            <a:ext cx="533520" cy="5335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6934320" y="3429000"/>
            <a:ext cx="457200" cy="5335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6858000" y="3886200"/>
            <a:ext cx="609480" cy="6094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6248520" y="3276720"/>
            <a:ext cx="685800" cy="6094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6324480" y="3809880"/>
            <a:ext cx="533520" cy="6098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9"/>
          <p:cNvSpPr/>
          <p:nvPr/>
        </p:nvSpPr>
        <p:spPr>
          <a:xfrm rot="20919600">
            <a:off x="3031920" y="2666520"/>
            <a:ext cx="13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ergy Vec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7772400" y="3460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990720" y="5029200"/>
            <a:ext cx="752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ore focused the energy, the more focused the cone will b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best results are obtained when there is some overlap between departments and/or tea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er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s should make sure the cone is focused and well defi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omeone starts acting outside the cone, the leader should find out why and try to redirect that individuals energy toward the c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ssion, Purpose, and Stakehold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urpose or mission of the organization should be well defined to all stakeholders in order for them to buy into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commitment, (1) you need to create a strong emotional vision or (2) desire to be a part of the organiz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3:38:33Z</dcterms:created>
  <dc:creator>Elkin City Schools</dc:creator>
  <dc:description/>
  <dc:language>en-US</dc:language>
  <cp:lastModifiedBy>AEURY</cp:lastModifiedBy>
  <dcterms:modified xsi:type="dcterms:W3CDTF">2007-11-27T21:10:22Z</dcterms:modified>
  <cp:revision>13</cp:revision>
  <dc:subject/>
  <dc:title>The Organizational Cone</dc:title>
</cp:coreProperties>
</file>